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76A-E929-4612-BE4F-5F3D5EA5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40F-557E-48E8-BF16-CF3B8DA7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9D7-8EC2-4F6E-95FA-A7DA1C43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BE0-1BF3-483F-8587-814982E4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91E-A2D9-4F50-9306-63DAC12F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9234-48A5-4C9E-BBFF-7553A924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90E-741F-4718-9179-E1E45BEE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89D-7D8F-4170-B69C-D8C4EC28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DF6-8E0B-4AC3-87A0-7D83EAEC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B2B-1C62-4923-BA2E-3DE08462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AC0-ED86-41AC-9D6E-CB44A96D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F37-C553-4D7E-9746-73AD5A93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1327-3B38-4B63-917B-56F1C89B2D89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anada’s Natural Systems</a:t>
            </a:r>
            <a:br>
              <a:rPr sz="4400"/>
            </a:b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1.1 The Earth in Mo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3534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ontinental Drif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Wegner could not explain how massive continents could move across the face of the ear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Most scientists rejected the CD theory.  Years later it turned out Wegner was right and it was a Canadian who helped discover the reason wh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late Tecton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nk of the earth as a round egg.  Canada sits on the thin, brittle outer shell, called the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lithosphere,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r c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eneath the lithosphere is the mantle, a zone of molten magma  where you’d find the egg wh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late Tecton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t the center, the earth’s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core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is like the yo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t is the nuclear furnace that melts the rocks of the mantle abov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late Tecton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539640" y="1714680"/>
            <a:ext cx="777744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4929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826920" y="2000160"/>
            <a:ext cx="7632720" cy="4092840"/>
          </a:xfrm>
          <a:prstGeom prst="rect">
            <a:avLst/>
          </a:prstGeom>
          <a:ln w="0">
            <a:noFill/>
          </a:ln>
        </p:spPr>
      </p:pic>
      <p:sp>
        <p:nvSpPr>
          <p:cNvPr id="75" name="Curved Left Arrow 3"/>
          <p:cNvSpPr/>
          <p:nvPr/>
        </p:nvSpPr>
        <p:spPr>
          <a:xfrm>
            <a:off x="6827760" y="3429000"/>
            <a:ext cx="576360" cy="431640"/>
          </a:xfrm>
          <a:custGeom>
            <a:avLst/>
            <a:gdLst>
              <a:gd name="textAreaLeft" fmla="*/ 77040 w 576360"/>
              <a:gd name="textAreaRight" fmla="*/ 499320 w 576360"/>
              <a:gd name="textAreaTop" fmla="*/ 67320 h 431640"/>
              <a:gd name="textAreaBottom" fmla="*/ 3103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14921"/>
                <a:lnTo>
                  <a:pt x="4050" y="21480"/>
                </a:lnTo>
                <a:lnTo>
                  <a:pt x="0" y="16200"/>
                </a:lnTo>
                <a:lnTo>
                  <a:pt x="4050" y="10680"/>
                </a:lnTo>
                <a:lnTo>
                  <a:pt x="4050" y="13380"/>
                </a:lnTo>
                <a:arcTo wR="21600" hR="6750" stAng="3514921" swAng="-3048935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urved Right Arrow 4"/>
          <p:cNvSpPr/>
          <p:nvPr/>
        </p:nvSpPr>
        <p:spPr>
          <a:xfrm>
            <a:off x="6156360" y="3429000"/>
            <a:ext cx="431640" cy="431640"/>
          </a:xfrm>
          <a:custGeom>
            <a:avLst/>
            <a:gdLst>
              <a:gd name="textAreaLeft" fmla="*/ 57600 w 431640"/>
              <a:gd name="textAreaRight" fmla="*/ 374040 w 431640"/>
              <a:gd name="textAreaTop" fmla="*/ 67320 h 431640"/>
              <a:gd name="textAreaBottom" fmla="*/ 31032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026114"/>
                <a:lnTo>
                  <a:pt x="16200" y="21386"/>
                </a:lnTo>
                <a:lnTo>
                  <a:pt x="21600" y="16200"/>
                </a:lnTo>
                <a:lnTo>
                  <a:pt x="16200" y="10586"/>
                </a:lnTo>
                <a:lnTo>
                  <a:pt x="16200" y="13286"/>
                </a:lnTo>
                <a:arcTo wR="21600" hR="6750" stAng="7773886" swAng="2560128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6156360" y="4046400"/>
            <a:ext cx="12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onv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late Tecton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the 1960’s Canadian J. Tuzo Wilson recognized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hot spots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could form deep in the mantle and that currents could circulate above these hot sp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Just like boiling water swirls in a heated pot on a st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77007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late Tecton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se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convection currents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might provide enough force to push the crust apart, as Wegner sugges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field of plate tectonics investigates how moving plates can create volcanoes, build mountains, and trigger earthquak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Volcan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280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Volcan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anada has no active volcanoes, but some along the Pacific coast are classes as dormant (sleeping) volcan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West Coast volcanoes are part of the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Pacific Ring of Fire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, a global system of active volcanic mountains that circle the Pacific Oce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n this 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You will be able to show that you know some of Canada’s important geographic patt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Understand that Canada is divided into different types of regions including bioregions and ecoz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5122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Volcan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causes volcano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cientists believe there are “hot spots” in the earth’s 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ising heat sets the molten material of the mantle into huge circular motions, like warm air circulating in a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Volcan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s the convection currents swirl, they drag the plates of the lithosphere with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racks open along the plate edges and magma forces its way throug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569440" cy="59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Fold Mounta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aper/binder exper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textbooks are like thick plates, carrying continents, while the paper represents soft sedimentary rock layers on an ocean p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Your arms are like convection currents dragging the plates together to build mount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Fold Mounta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X  the Rocky Mountains were folded by the collision of the Pacific and North American Pla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iagram page 25 t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n this 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cognize that Canada’s regions have very different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Understand how people and environment are linked together in Canada’s reg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an You Believe It 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. 22 Tex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Calibri"/>
              </a:rPr>
              <a:t>Canada is home to some pretty strange landforms and weather, but don’t be that all of the following statements are true.  Take your best guess at the following ques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uilding Mounta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0" y="1484280"/>
            <a:ext cx="89647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: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ontinental Drif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f you cut out the continents on a world map, you would be surprised at how well some of them fit toge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lmost a century ago, German geographer Alfred Wegener noticed this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ontinental Drif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egner believed that the continents had once been joined together in one land mass that he called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Pangaea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meaning “all land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e proposed the theory of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Continental Drift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ich suggests that the continents gradually moved away from one another over tim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424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12600" y="189000"/>
            <a:ext cx="90234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1:51:17Z</dcterms:created>
  <dc:creator>Jason</dc:creator>
  <dc:description/>
  <dc:language>en-US</dc:language>
  <cp:lastModifiedBy>Jason</cp:lastModifiedBy>
  <dcterms:modified xsi:type="dcterms:W3CDTF">2010-09-27T12:59:21Z</dcterms:modified>
  <cp:revision>7</cp:revision>
  <dc:subject/>
  <dc:title>Canada’s Natural Systems</dc:title>
</cp:coreProperties>
</file>